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13D-DC17-4C38-B8C3-20BC1500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F94-94EA-41FE-959C-A0DB811E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F29-C64E-4753-9CB3-19A3D1D0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A1C-4085-4D2F-AC8D-F51646DD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C90-055B-4B75-BF33-8D6DACFB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B3A-1DFF-4AC0-A006-02046D08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567-A85F-4D0A-B6F8-9E64E098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919-11A3-4C7F-82FF-843868C5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777-B0EF-40D7-A36E-4CE7FAF8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837-C8AA-404E-99F1-C1D10292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384-934A-4E65-ABBE-6A1B269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513-5F9A-4AD4-8B7F-2427A24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138B-BD40-43AC-99C1-F75913CE2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1028880"/>
            <a:ext cx="766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PERATIONALISATION OF AT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2514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Dr. M.A.Kar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NGLOGO" descr=""/>
          <p:cNvPicPr/>
          <p:nvPr/>
        </p:nvPicPr>
        <p:blipFill>
          <a:blip r:embed="rId1"/>
          <a:stretch/>
        </p:blipFill>
        <p:spPr>
          <a:xfrm>
            <a:off x="3581280" y="3352680"/>
            <a:ext cx="213372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4991040"/>
            <a:ext cx="8247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ahoma"/>
              </a:rPr>
              <a:t>National Institute of Agricultural Extension Management </a:t>
            </a:r>
            <a:br>
              <a:rPr sz="2200"/>
            </a:b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Rajendranagar, Hyderab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609480"/>
            <a:ext cx="838224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FAC composition should reflect the major groups of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stakeholders within the blo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f the OIC were from the DOA, then he/she expected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vide administrative supervision over other DO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f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in the blo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A staff include AEOs, AOs who supervise V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case of small blocks the OIC may directly supervis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80880"/>
            <a:ext cx="83059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 OF AEO/HEO/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EO, HEO and/or LEO identify and prioritize importan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chnical, management, and resource constraints fac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y different socio-economic group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f farmers in block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y using appropriate PRA -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eeds of resource poor farmers and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ther disadvantaged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groups, including scheduled castes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d tribal groups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should be focu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dentify important NRM problems that pose a threa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he different cropping systems and the natural resour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e within th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533520"/>
            <a:ext cx="86104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orking with the district-level research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tens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alis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technology team develops  annual action plan for bloc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Work in collaboration with V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Shall implement their respective block action plans (BAP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orking with NGOs and VEWs, shall establish and provid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chnical support to different types of FIGs who ar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ducing different types of high value crops or livestock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erpr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53352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llage Extension Worker VE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EW shall inventory the predominant crop,livestock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d farming systems in service area and determine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chnology gaps that limit the productivity of field crop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rticultural, and livestock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duction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ing those  homogeneous socio-economic groups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s (e.g.scheduled caste, tribal and women farmers) wh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y out particular farming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oups of similar socio-economic farm household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ul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 targeted for specific farming system innovation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ucces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ories within the district or block) and for organization in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914400"/>
            <a:ext cx="8381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EW’s prime responsibility is day - to- day progra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mplementation under the technical supervisions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uidance of the F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EW would carry out a combination of on-farm visits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etings, demonstrations, farmer field day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th FIAC team members assisting in demonstration plot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stallations, teaching farmer – training courses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ducting field days and other group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EW work towards the goal to create an integrated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ngle window extension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533520"/>
            <a:ext cx="8382240" cy="40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couraging farmers to participate in training activiti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ing offered at the mandal or Nyaya Panchayat lev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phasis would be given to assisting resource po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rmers and other disadvantaged groups, including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omen farm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VEW would encourage and help farmers gain access to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ther technical services, such as soil testing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d artificial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semination (AI), and resources (cred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rk in collaboration with  NGOs, for formation of CI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ce groups are established, assist them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Necessary inform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Technology and 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Access to inpu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Credit and marketing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orking with the FIAC team, the VEW woul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courage newly established FIGs to join similar types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s within the block, to form a farmers assoc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304920"/>
            <a:ext cx="8305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rmers Organizations (FOs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ould be encouraged a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llage level and in turn these groups, evolve in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odity Associations (CAs), Marketing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operativ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other types of FOs at the block and district lev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Farmer Interest Groups (FIGs) and Farmer Associations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FAs) will be effectively involved in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the preparation of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BA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ordinate in organizing demonstrations, on-farm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daptive trails and give feedback to the extension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sear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ir representativ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ould be directly involved 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ock-level FACs and also at Governing Board of AT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685800"/>
            <a:ext cx="8610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GB of ATMA would select and utilize project fund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support one or more NGOs to assist different typ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f farmers in becoming organized into different typ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within the distric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53352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armer Advisory Committees (FACs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will be constituted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viding a formal feedback mechanism. FACs constitut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presentati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rom all major stakeholders and farme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presentatives of FOs within th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FAC would help set block extension priorities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ommend resource allocation across program are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se committees would review and provide advice to each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mplementation unit at block level. The chairman of the FAC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ould be elected from the farmer representatives on ro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FACs shall meet once in a month during the season and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quarterly in lean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04920"/>
            <a:ext cx="861048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MA a registered society responsible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chnolog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semination activiti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t the distric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It i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focal poin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ntegrating Research and Extens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activities and decentralizing day to day management of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public Agricultural Technology System (ATS)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t would have linkage with all departments of the Govt.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earch organisation as well as NGOs and agenci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ociated with Agril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ment in the distri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MA is a society of key stake holders involved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gricultural activities for sustainable agricultural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velopment in the distr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 a registered society, it will receive and expend projec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s and enter in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ac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greemen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intains revolving accoun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use to recover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rating co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666880" y="2438280"/>
            <a:ext cx="33530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nk you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36640" y="1870200"/>
            <a:ext cx="352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914400"/>
            <a:ext cx="785016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Y 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ject Director AT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y. Project Director AT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Technology Team memb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AC  Conv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rmer’s Organisation / Commodity interest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457200"/>
            <a:ext cx="830592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To Operationalization ATMA Responsibilities of Key Acto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ject Dire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vide overall leadership for agricultural extension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lated technology transfer activiti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in the distr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ork closely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MA Governing Board (GB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rve as Member Secretary of the G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hedule G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etings;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ward meeting notice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enda and necessary reports to GB members i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ce of scheduled meet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685800"/>
            <a:ext cx="8153280" cy="62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Prepare and submit Annual Action Plans to the ATMA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Governing Board (GB) for review, possible modification,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d approv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rward action plans approved by the GB to the Stat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dal Cell for review and preparation of SEWP for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Prepare and submit other types of proposals, as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authorized by the GB that will enhance the work and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financial sustainability of the ATMA and it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velop and maintain a close working relationship with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ne departments that participate in ATMA activities, a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ll as with other government offices 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str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762120"/>
            <a:ext cx="83059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evelop and maintain a positive working relationship with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NGOs, cooperatives, and private sector firms, including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put supply, agro-processing, and marke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mote the development of farmer organization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roughout the distr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mote and help establish new marketing and agro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cessing opportunities for farmers within the distr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Establish, equip, and maintain a suitable office for the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ATMA to carry out its assigned functions, activities and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ta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304920"/>
            <a:ext cx="853416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re and supervise ATMA staff in carrying ou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MA busi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Establish and maintain ATMA bank accounts; receive and 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sburse funds as directed by the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intain accurate and up-to-date financial accounts that ar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eriodically audited by Chartered Accounta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bmit financial reports to the State Nodal Cell in turn to b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bmitted to the Govt. of In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llect project performance data and compile inform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ed to monitor project progress; submit performan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orts to the noda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rry out other duties and tasks necessary to ensure a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tive program of technology disseminatio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ithin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stri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457200"/>
            <a:ext cx="838188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AC –CONVEN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vide technical coordination and administrativ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pervision for all block-level extension program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onsible for submission of  block action plans (BAPs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Ps are compiled from proposals submitted by BTT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Ps reviewed and approved by FAC befo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warded to the ATMA for approval and finan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intain bank account to deposit ATMA fu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68580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unds - disbursed to BTT (department wise) staff t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rry out extension activities, approved by AT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tain financial accoun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cating how ATM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ds were spent; these financial records would b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mitted periodically to the ATMA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ablish and maintain an active Farmer Advisory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mittee (FAC) to help set extension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aluate extension programs within the block or mand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06:04:03Z</dcterms:created>
  <dc:creator>MAKAREEM</dc:creator>
  <dc:description/>
  <dc:language>en-US</dc:language>
  <cp:lastModifiedBy>MAKAREEM</cp:lastModifiedBy>
  <dcterms:modified xsi:type="dcterms:W3CDTF">2006-11-13T11:55:47Z</dcterms:modified>
  <cp:revision>16</cp:revision>
  <dc:subject/>
  <dc:title>PowerPoint Presentation</dc:title>
</cp:coreProperties>
</file>